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7.png" ContentType="image/png"/>
  <Override PartName="/ppt/media/image56.png" ContentType="image/png"/>
  <Override PartName="/ppt/media/image53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31.png" ContentType="image/png"/>
  <Override PartName="/ppt/media/image25.png" ContentType="image/png"/>
  <Override PartName="/ppt/media/image62.png" ContentType="image/png"/>
  <Override PartName="/ppt/media/image23.wmf" ContentType="image/x-wmf"/>
  <Override PartName="/ppt/media/image6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22.wmf" ContentType="image/x-wmf"/>
  <Override PartName="/ppt/media/image6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21.wmf" ContentType="image/x-wmf"/>
  <Override PartName="/ppt/media/image64.png" ContentType="image/png"/>
  <Override PartName="/ppt/media/image26.png" ContentType="image/png"/>
  <Override PartName="/ppt/media/image20.wmf" ContentType="image/x-wmf"/>
  <Override PartName="/ppt/media/image63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9.png" ContentType="image/png"/>
  <Override PartName="/ppt/media/image30.png" ContentType="image/png"/>
  <Override PartName="/ppt/media/image37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15C-69E4-4FD7-9B5D-501B1973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4AA-2488-4E11-828D-2DF8CE72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049-43AB-4BAB-AB95-8508D82D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776-2951-4FA0-9435-7F4EE26F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6FE-2A5C-4BE6-A325-A7478F38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585-03AB-42BC-BFA7-E1C88F3E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0AD-6068-40B6-9DBE-15FAE18E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982-E34F-4FD2-8997-CE17E924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F30-38DF-421B-80E5-97E35540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0AC-D428-47DA-AB7E-FD248442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C3E-C5EB-4D4F-ABB3-7B7A1A5E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C5C-47C9-4E8B-B28C-055AC9AD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D211-55F5-461C-9CDA-00E7F6A8D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png"/><Relationship Id="rId19" Type="http://schemas.openxmlformats.org/officeDocument/2006/relationships/image" Target="../media/image65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3040" y="152280"/>
            <a:ext cx="75859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DDITIONAL ANALYSI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1880" y="647208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48320" y="65530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7840" y="99072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4760" y="1704960"/>
            <a:ext cx="4737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operty has two equivalent defini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how and application of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8400" y="2587680"/>
            <a:ext cx="6473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iscuss some implications of the superposition property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13440" y="345744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two very powerful analysis tools that allow u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cus on parts of a circuit and hide away unnecessary complex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5760" y="4753080"/>
            <a:ext cx="713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very useful application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609480"/>
            <a:ext cx="518148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7560" y="2247840"/>
            <a:ext cx="584388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technique is a direct applic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e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3160" y="3311640"/>
            <a:ext cx="71330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 is normally useful when the circuit ha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 few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749840" y="149400"/>
          <a:ext cx="309888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149400"/>
                    <a:ext cx="3098880" cy="3965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1084680" y="1863720"/>
            <a:ext cx="2632680" cy="1035000"/>
            <a:chOff x="1084680" y="1863720"/>
            <a:chExt cx="2632680" cy="1035000"/>
          </a:xfrm>
        </p:grpSpPr>
        <p:sp>
          <p:nvSpPr>
            <p:cNvPr id="206" name=""/>
            <p:cNvSpPr/>
            <p:nvPr/>
          </p:nvSpPr>
          <p:spPr>
            <a:xfrm>
              <a:off x="1084680" y="1863720"/>
              <a:ext cx="263268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Due to Line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219320" y="2438280"/>
            <a:ext cx="228600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438280"/>
                      <a:ext cx="2286000" cy="460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09" name=""/>
          <p:cNvGrpSpPr/>
          <p:nvPr/>
        </p:nvGrpSpPr>
        <p:grpSpPr>
          <a:xfrm>
            <a:off x="228600" y="4572000"/>
            <a:ext cx="7193160" cy="860400"/>
            <a:chOff x="228600" y="4572000"/>
            <a:chExt cx="7193160" cy="860400"/>
          </a:xfrm>
        </p:grpSpPr>
        <p:graphicFrame>
          <p:nvGraphicFramePr>
            <p:cNvPr id="210" name=""/>
            <p:cNvGraphicFramePr/>
            <p:nvPr/>
          </p:nvGraphicFramePr>
          <p:xfrm>
            <a:off x="228600" y="4572000"/>
            <a:ext cx="762120" cy="6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572000"/>
                      <a:ext cx="762120" cy="60804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1163160" y="460692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445000"/>
            <a:ext cx="7201800" cy="825480"/>
            <a:chOff x="228600" y="5445000"/>
            <a:chExt cx="7201800" cy="825480"/>
          </a:xfrm>
        </p:grpSpPr>
        <p:graphicFrame>
          <p:nvGraphicFramePr>
            <p:cNvPr id="214" name=""/>
            <p:cNvGraphicFramePr/>
            <p:nvPr/>
          </p:nvGraphicFramePr>
          <p:xfrm>
            <a:off x="228600" y="5486040"/>
            <a:ext cx="762120" cy="579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5486040"/>
                      <a:ext cx="762120" cy="57960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171800" y="544500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65760" y="228600"/>
            <a:ext cx="3221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CLARITY WE SHOW A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ITH ONLY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2362320"/>
            <a:ext cx="2514600" cy="1560240"/>
            <a:chOff x="76320" y="2362320"/>
            <a:chExt cx="2514600" cy="1560240"/>
          </a:xfrm>
        </p:grpSpPr>
        <p:grpSp>
          <p:nvGrpSpPr>
            <p:cNvPr id="222" name=""/>
            <p:cNvGrpSpPr/>
            <p:nvPr/>
          </p:nvGrpSpPr>
          <p:grpSpPr>
            <a:xfrm>
              <a:off x="76320" y="2362320"/>
              <a:ext cx="2514600" cy="1218960"/>
              <a:chOff x="76320" y="2362320"/>
              <a:chExt cx="2514600" cy="1218960"/>
            </a:xfrm>
          </p:grpSpPr>
          <p:sp>
            <p:nvSpPr>
              <p:cNvPr id="223" name=""/>
              <p:cNvSpPr/>
              <p:nvPr/>
            </p:nvSpPr>
            <p:spPr>
              <a:xfrm>
                <a:off x="1905120" y="2362320"/>
                <a:ext cx="685800" cy="914400"/>
              </a:xfrm>
              <a:prstGeom prst="downArrowCallout">
                <a:avLst>
                  <a:gd name="adj1" fmla="val 25002"/>
                  <a:gd name="adj2" fmla="val 25000"/>
                  <a:gd name="adj3" fmla="val 22222"/>
                  <a:gd name="adj4" fmla="val 66667"/>
                </a:avLst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76320" y="3290760"/>
                    <a:ext cx="2273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NTRIBUTION BY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38080" y="3581280"/>
                  <a:ext cx="26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311560" y="2362320"/>
            <a:ext cx="2260440" cy="1712880"/>
            <a:chOff x="2311560" y="2362320"/>
            <a:chExt cx="2260440" cy="1712880"/>
          </a:xfrm>
        </p:grpSpPr>
        <p:sp>
          <p:nvSpPr>
            <p:cNvPr id="227" name=""/>
            <p:cNvSpPr/>
            <p:nvPr/>
          </p:nvSpPr>
          <p:spPr>
            <a:xfrm>
              <a:off x="2819520" y="2362320"/>
              <a:ext cx="685800" cy="1066680"/>
            </a:xfrm>
            <a:prstGeom prst="downArrowCallout">
              <a:avLst>
                <a:gd name="adj1" fmla="val 25002"/>
                <a:gd name="adj2" fmla="val 25000"/>
                <a:gd name="adj3" fmla="val 25923"/>
                <a:gd name="adj4" fmla="val 66667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311560" y="3429000"/>
                  <a:ext cx="226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RIBUTION 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200400" y="373392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231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237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244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251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6324480" y="404640"/>
          <a:ext cx="2971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04640"/>
                    <a:ext cx="2971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352680" y="487440"/>
          <a:ext cx="289584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440"/>
                    <a:ext cx="28958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1520" y="5544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400800" y="0"/>
                <a:ext cx="457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-76320" y="380880"/>
          <a:ext cx="340524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80880"/>
                    <a:ext cx="34052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9907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34720" y="106668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3440" y="1295280"/>
            <a:ext cx="2400120" cy="1216080"/>
            <a:chOff x="3943440" y="1295280"/>
            <a:chExt cx="2400120" cy="1216080"/>
          </a:xfrm>
        </p:grpSpPr>
        <p:sp>
          <p:nvSpPr>
            <p:cNvPr id="270" name=""/>
            <p:cNvSpPr/>
            <p:nvPr/>
          </p:nvSpPr>
          <p:spPr>
            <a:xfrm>
              <a:off x="4533840" y="1295280"/>
              <a:ext cx="266760" cy="711360"/>
            </a:xfrm>
            <a:custGeom>
              <a:avLst/>
              <a:gdLst/>
              <a:ahLst/>
              <a:rect l="l" t="t" r="r" b="b"/>
              <a:pathLst>
                <a:path w="168" h="448">
                  <a:moveTo>
                    <a:pt x="24" y="448"/>
                  </a:moveTo>
                  <a:cubicBezTo>
                    <a:pt x="12" y="288"/>
                    <a:pt x="0" y="128"/>
                    <a:pt x="24" y="64"/>
                  </a:cubicBezTo>
                  <a:cubicBezTo>
                    <a:pt x="48" y="0"/>
                    <a:pt x="144" y="64"/>
                    <a:pt x="168" y="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3943440" y="2014560"/>
                  <a:ext cx="240012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6477120" y="1511280"/>
            <a:ext cx="2504880" cy="2082960"/>
            <a:chOff x="6477120" y="1511280"/>
            <a:chExt cx="2504880" cy="2082960"/>
          </a:xfrm>
        </p:grpSpPr>
        <p:sp>
          <p:nvSpPr>
            <p:cNvPr id="273" name=""/>
            <p:cNvSpPr/>
            <p:nvPr/>
          </p:nvSpPr>
          <p:spPr>
            <a:xfrm>
              <a:off x="7924680" y="1511280"/>
              <a:ext cx="343080" cy="622440"/>
            </a:xfrm>
            <a:custGeom>
              <a:avLst/>
              <a:gdLst/>
              <a:ahLst/>
              <a:rect l="l" t="t" r="r" b="b"/>
              <a:pathLst>
                <a:path w="216" h="392">
                  <a:moveTo>
                    <a:pt x="144" y="392"/>
                  </a:moveTo>
                  <a:cubicBezTo>
                    <a:pt x="180" y="252"/>
                    <a:pt x="216" y="112"/>
                    <a:pt x="192" y="56"/>
                  </a:cubicBezTo>
                  <a:cubicBezTo>
                    <a:pt x="168" y="0"/>
                    <a:pt x="32" y="56"/>
                    <a:pt x="0" y="5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477120" y="2133720"/>
                  <a:ext cx="250488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} } = {  {v rSub { size 8{2} } }  over  {R rSub { size 8{ ital </m:t>
                              </m:r>
                              <m:r>
                                <m:t xml:space="preserve">e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} } } }  {} 
} } {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9640" y="1143000"/>
            <a:ext cx="43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2280" y="1981080"/>
            <a:ext cx="2657520" cy="1153440"/>
            <a:chOff x="152280" y="1981080"/>
            <a:chExt cx="2657520" cy="1153440"/>
          </a:xfrm>
        </p:grpSpPr>
        <p:graphicFrame>
          <p:nvGraphicFramePr>
            <p:cNvPr id="280" name=""/>
            <p:cNvGraphicFramePr/>
            <p:nvPr/>
          </p:nvGraphicFramePr>
          <p:xfrm>
            <a:off x="152280" y="1981080"/>
            <a:ext cx="2657520" cy="91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1981080"/>
                      <a:ext cx="2657520" cy="919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187200" y="2827440"/>
              <a:ext cx="1550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oop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505320" y="2666880"/>
            <a:ext cx="2738160" cy="2220120"/>
            <a:chOff x="3505320" y="2666880"/>
            <a:chExt cx="2738160" cy="2220120"/>
          </a:xfrm>
        </p:grpSpPr>
        <p:graphicFrame>
          <p:nvGraphicFramePr>
            <p:cNvPr id="284" name=""/>
            <p:cNvGraphicFramePr/>
            <p:nvPr/>
          </p:nvGraphicFramePr>
          <p:xfrm>
            <a:off x="3505320" y="2666880"/>
            <a:ext cx="2738160" cy="1913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05320" y="2666880"/>
                      <a:ext cx="2738160" cy="191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3764880" y="457992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4191120"/>
            <a:ext cx="2890800" cy="1830960"/>
            <a:chOff x="6324480" y="4191120"/>
            <a:chExt cx="2890800" cy="183096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4191120"/>
            <a:ext cx="2890800" cy="150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24480" y="4191120"/>
                      <a:ext cx="2890800" cy="1503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784200" y="571500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95480" y="76320"/>
            <a:ext cx="3451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WISH TO COMPUT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4960" y="5410080"/>
            <a:ext cx="3591360" cy="1078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we know the “partial circu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need to be able to solve the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fficient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2209680"/>
            <a:ext cx="3786120" cy="1887480"/>
            <a:chOff x="304920" y="2209680"/>
            <a:chExt cx="3786120" cy="1887480"/>
          </a:xfrm>
        </p:grpSpPr>
        <p:graphicFrame>
          <p:nvGraphicFramePr>
            <p:cNvPr id="295" name=""/>
            <p:cNvGraphicFramePr/>
            <p:nvPr/>
          </p:nvGraphicFramePr>
          <p:xfrm>
            <a:off x="304920" y="2514600"/>
            <a:ext cx="3786120" cy="158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14600"/>
                      <a:ext cx="3786120" cy="15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333720" y="2209680"/>
              <a:ext cx="3137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e set to zero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43400" y="2666880"/>
            <a:ext cx="4688640" cy="757080"/>
            <a:chOff x="4343400" y="2666880"/>
            <a:chExt cx="4688640" cy="757080"/>
          </a:xfrm>
        </p:grpSpPr>
        <p:graphicFrame>
          <p:nvGraphicFramePr>
            <p:cNvPr id="299" name=""/>
            <p:cNvGraphicFramePr/>
            <p:nvPr/>
          </p:nvGraphicFramePr>
          <p:xfrm>
            <a:off x="4343400" y="2666880"/>
            <a:ext cx="303660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30366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417080" y="2758320"/>
              <a:ext cx="16149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400" y="3429000"/>
            <a:ext cx="4002120" cy="685440"/>
            <a:chOff x="4343400" y="3429000"/>
            <a:chExt cx="4002120" cy="685440"/>
          </a:xfrm>
        </p:grpSpPr>
        <p:graphicFrame>
          <p:nvGraphicFramePr>
            <p:cNvPr id="303" name=""/>
            <p:cNvGraphicFramePr/>
            <p:nvPr/>
          </p:nvGraphicFramePr>
          <p:xfrm>
            <a:off x="4343400" y="3429000"/>
            <a:ext cx="1937880" cy="68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3429000"/>
                      <a:ext cx="1937880" cy="6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242840" y="3440520"/>
              <a:ext cx="110268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920" y="4197240"/>
            <a:ext cx="3814560" cy="2024280"/>
            <a:chOff x="304920" y="4197240"/>
            <a:chExt cx="3814560" cy="2024280"/>
          </a:xfrm>
        </p:grpSpPr>
        <p:graphicFrame>
          <p:nvGraphicFramePr>
            <p:cNvPr id="307" name=""/>
            <p:cNvGraphicFramePr/>
            <p:nvPr/>
          </p:nvGraphicFramePr>
          <p:xfrm>
            <a:off x="304920" y="4648320"/>
            <a:ext cx="3814560" cy="157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648320"/>
                      <a:ext cx="381456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467640" y="4197240"/>
              <a:ext cx="35701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w we set to zero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962520" y="4343400"/>
            <a:ext cx="2361960" cy="2316240"/>
            <a:chOff x="3962520" y="4343400"/>
            <a:chExt cx="2361960" cy="2316240"/>
          </a:xfrm>
        </p:grpSpPr>
        <p:sp>
          <p:nvSpPr>
            <p:cNvPr id="311" name=""/>
            <p:cNvSpPr/>
            <p:nvPr/>
          </p:nvSpPr>
          <p:spPr>
            <a:xfrm>
              <a:off x="4275360" y="4343400"/>
              <a:ext cx="15537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3962520" y="4648320"/>
            <a:ext cx="2361960" cy="201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4648320"/>
                      <a:ext cx="2361960" cy="20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5486400"/>
                <a:ext cx="2361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6 \[ V \]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6248520" y="4572000"/>
            <a:ext cx="2654280" cy="615960"/>
            <a:chOff x="6248520" y="4572000"/>
            <a:chExt cx="2654280" cy="615960"/>
          </a:xfrm>
        </p:grpSpPr>
        <p:graphicFrame>
          <p:nvGraphicFramePr>
            <p:cNvPr id="316" name=""/>
            <p:cNvGraphicFramePr/>
            <p:nvPr/>
          </p:nvGraphicFramePr>
          <p:xfrm>
            <a:off x="6248520" y="4572000"/>
            <a:ext cx="19573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520" y="4572000"/>
                      <a:ext cx="1957320" cy="615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8153280" y="4678200"/>
                  <a:ext cx="749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533520"/>
          <a:ext cx="4114800" cy="16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533520"/>
                    <a:ext cx="4114800" cy="162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19520" y="166680"/>
                <a:ext cx="421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304920"/>
          <a:ext cx="33526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526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9680" y="-50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4191120"/>
            <a:ext cx="3398760" cy="2372760"/>
            <a:chOff x="0" y="4191120"/>
            <a:chExt cx="3398760" cy="2372760"/>
          </a:xfrm>
        </p:grpSpPr>
        <p:sp>
          <p:nvSpPr>
            <p:cNvPr id="329" name=""/>
            <p:cNvSpPr/>
            <p:nvPr/>
          </p:nvSpPr>
          <p:spPr>
            <a:xfrm>
              <a:off x="542520" y="4191120"/>
              <a:ext cx="247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0" y="4495680"/>
            <a:ext cx="3398760" cy="20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495680"/>
                      <a:ext cx="3398760" cy="2068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2" name=""/>
          <p:cNvSpPr/>
          <p:nvPr/>
        </p:nvSpPr>
        <p:spPr>
          <a:xfrm>
            <a:off x="3992400" y="387360"/>
            <a:ext cx="43275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must be able to solve each circuit in a 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fficient manner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4920" y="2384280"/>
          <a:ext cx="2971800" cy="180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384280"/>
                    <a:ext cx="2971800" cy="1806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39280" y="2124000"/>
            <a:ext cx="2477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 to zero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90720" y="2438280"/>
                <a:ext cx="298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554280" y="1447920"/>
            <a:ext cx="5307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1 is known then V’o is obtained using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3600" y="1835280"/>
            <a:ext cx="5389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1 can be obtained by series parallel reduction and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81080" y="4267080"/>
            <a:ext cx="6471360" cy="1060200"/>
            <a:chOff x="1981080" y="4267080"/>
            <a:chExt cx="6471360" cy="1060200"/>
          </a:xfrm>
        </p:grpSpPr>
        <p:grpSp>
          <p:nvGrpSpPr>
            <p:cNvPr id="340" name=""/>
            <p:cNvGrpSpPr/>
            <p:nvPr/>
          </p:nvGrpSpPr>
          <p:grpSpPr>
            <a:xfrm>
              <a:off x="1981080" y="4794120"/>
              <a:ext cx="303480" cy="533160"/>
              <a:chOff x="1981080" y="4794120"/>
              <a:chExt cx="303480" cy="533160"/>
            </a:xfrm>
          </p:grpSpPr>
          <p:sp>
            <p:nvSpPr>
              <p:cNvPr id="341" name=""/>
              <p:cNvSpPr/>
              <p:nvPr/>
            </p:nvSpPr>
            <p:spPr>
              <a:xfrm>
                <a:off x="2284560" y="4870080"/>
                <a:ext cx="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1981080" y="4794120"/>
                    <a:ext cx="2793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3" name=""/>
            <p:cNvSpPr/>
            <p:nvPr/>
          </p:nvSpPr>
          <p:spPr>
            <a:xfrm>
              <a:off x="3465000" y="4267080"/>
              <a:ext cx="498744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I2 can be obtained using a 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V”o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3657600" y="4800600"/>
          <a:ext cx="2666880" cy="196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800600"/>
                    <a:ext cx="2666880" cy="1963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46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16480" y="2209680"/>
            <a:ext cx="2858760" cy="1549440"/>
            <a:chOff x="3516480" y="2209680"/>
            <a:chExt cx="2858760" cy="1549440"/>
          </a:xfrm>
        </p:grpSpPr>
        <p:graphicFrame>
          <p:nvGraphicFramePr>
            <p:cNvPr id="350" name=""/>
            <p:cNvGraphicFramePr/>
            <p:nvPr/>
          </p:nvGraphicFramePr>
          <p:xfrm>
            <a:off x="3516480" y="2209680"/>
            <a:ext cx="2033280" cy="150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16480" y="2209680"/>
                      <a:ext cx="2033280" cy="1506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4952880" y="3200400"/>
                  <a:ext cx="1422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den>
                      </m:f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6553080" y="2133720"/>
            <a:ext cx="2248200" cy="2082600"/>
            <a:chOff x="6553080" y="2133720"/>
            <a:chExt cx="2248200" cy="2082600"/>
          </a:xfrm>
        </p:grpSpPr>
        <p:graphicFrame>
          <p:nvGraphicFramePr>
            <p:cNvPr id="354" name=""/>
            <p:cNvGraphicFramePr/>
            <p:nvPr/>
          </p:nvGraphicFramePr>
          <p:xfrm>
            <a:off x="6553080" y="2133720"/>
            <a:ext cx="1905120" cy="1469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53080" y="2133720"/>
                      <a:ext cx="1905120" cy="14698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553080" y="3657600"/>
                  <a:ext cx="2248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333360" y="4386240"/>
            <a:ext cx="2686320" cy="2448720"/>
            <a:chOff x="333360" y="4386240"/>
            <a:chExt cx="2686320" cy="2448720"/>
          </a:xfrm>
        </p:grpSpPr>
        <p:sp>
          <p:nvSpPr>
            <p:cNvPr id="358" name=""/>
            <p:cNvSpPr/>
            <p:nvPr/>
          </p:nvSpPr>
          <p:spPr>
            <a:xfrm>
              <a:off x="380880" y="4386240"/>
              <a:ext cx="2413080" cy="1409760"/>
            </a:xfrm>
            <a:custGeom>
              <a:avLst/>
              <a:gdLst/>
              <a:ahLst/>
              <a:rect l="l" t="t" r="r" b="b"/>
              <a:pathLst>
                <a:path w="1520" h="888">
                  <a:moveTo>
                    <a:pt x="288" y="776"/>
                  </a:moveTo>
                  <a:cubicBezTo>
                    <a:pt x="280" y="872"/>
                    <a:pt x="208" y="888"/>
                    <a:pt x="192" y="776"/>
                  </a:cubicBezTo>
                  <a:cubicBezTo>
                    <a:pt x="176" y="664"/>
                    <a:pt x="0" y="208"/>
                    <a:pt x="192" y="104"/>
                  </a:cubicBezTo>
                  <a:cubicBezTo>
                    <a:pt x="384" y="0"/>
                    <a:pt x="1168" y="128"/>
                    <a:pt x="1344" y="152"/>
                  </a:cubicBezTo>
                  <a:cubicBezTo>
                    <a:pt x="1520" y="176"/>
                    <a:pt x="1432" y="240"/>
                    <a:pt x="1248" y="248"/>
                  </a:cubicBezTo>
                  <a:cubicBezTo>
                    <a:pt x="1064" y="256"/>
                    <a:pt x="400" y="112"/>
                    <a:pt x="240" y="200"/>
                  </a:cubicBezTo>
                  <a:cubicBezTo>
                    <a:pt x="80" y="288"/>
                    <a:pt x="296" y="680"/>
                    <a:pt x="288" y="776"/>
                  </a:cubicBezTo>
                  <a:close/>
                </a:path>
              </a:pathLst>
            </a:custGeom>
            <a:solidFill>
              <a:srgbClr val="cce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3360" y="6527880"/>
              <a:ext cx="26863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IN DOUBT… REDRA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261120" y="4876920"/>
                <a:ext cx="2882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59560" y="5526000"/>
                <a:ext cx="123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6 ital </m:t>
                            </m:r>
                            <m:r>
                              <m:t xml:space="preserve">k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Sub { size 8{2} } }  {} # 
V rSub { size 8{O} } =V rSub { size 8{O} }  rSup { size 8{'} } +V rSub { size 8{O} }  rSup { size 8{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124080" y="1440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1840" y="31680"/>
            <a:ext cx="20430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4080" y="611280"/>
          <a:ext cx="3427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611280"/>
                    <a:ext cx="3427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820320" y="768240"/>
            <a:ext cx="329256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onsider only the voltag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505320" y="1155600"/>
          <a:ext cx="3047760" cy="18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155600"/>
                    <a:ext cx="3047760" cy="189252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77120" y="1752480"/>
                <a:ext cx="1600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3560" y="3581280"/>
            <a:ext cx="302292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Consider only the 4mA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320" y="3962520"/>
          <a:ext cx="2665440" cy="21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962520"/>
                    <a:ext cx="2665440" cy="216216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303720" y="3124080"/>
            <a:ext cx="2384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nsider only the 3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856120" y="3027240"/>
          <a:ext cx="3103560" cy="199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6120" y="3027240"/>
                    <a:ext cx="3103560" cy="199260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116960" y="3657600"/>
            <a:ext cx="1543320" cy="770040"/>
            <a:chOff x="4116960" y="3657600"/>
            <a:chExt cx="1543320" cy="770040"/>
          </a:xfrm>
        </p:grpSpPr>
        <p:sp>
          <p:nvSpPr>
            <p:cNvPr id="377" name=""/>
            <p:cNvSpPr/>
            <p:nvPr/>
          </p:nvSpPr>
          <p:spPr>
            <a:xfrm>
              <a:off x="4116960" y="3657600"/>
              <a:ext cx="15433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191120" y="4038480"/>
                  <a:ext cx="14475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5249880"/>
                <a:ext cx="90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4183560" y="5492880"/>
            <a:ext cx="3436560" cy="893520"/>
            <a:chOff x="4183560" y="5492880"/>
            <a:chExt cx="3436560" cy="89352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4191120" y="5867280"/>
                  <a:ext cx="3429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4183560" y="5492880"/>
              <a:ext cx="26024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ing 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609480"/>
            <a:ext cx="2286000" cy="2438640"/>
            <a:chOff x="0" y="609480"/>
            <a:chExt cx="2286000" cy="2438640"/>
          </a:xfrm>
        </p:grpSpPr>
        <p:sp>
          <p:nvSpPr>
            <p:cNvPr id="387" name=""/>
            <p:cNvSpPr/>
            <p:nvPr/>
          </p:nvSpPr>
          <p:spPr>
            <a:xfrm>
              <a:off x="1371600" y="609480"/>
              <a:ext cx="914400" cy="10670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57400"/>
              <a:ext cx="1371600" cy="99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371600" y="609480"/>
            <a:ext cx="1727280" cy="1295640"/>
            <a:chOff x="1371600" y="609480"/>
            <a:chExt cx="1727280" cy="1295640"/>
          </a:xfrm>
        </p:grpSpPr>
        <p:sp>
          <p:nvSpPr>
            <p:cNvPr id="390" name=""/>
            <p:cNvSpPr/>
            <p:nvPr/>
          </p:nvSpPr>
          <p:spPr>
            <a:xfrm>
              <a:off x="1828800" y="1371600"/>
              <a:ext cx="1270080" cy="533520"/>
            </a:xfrm>
            <a:custGeom>
              <a:avLst/>
              <a:gdLst/>
              <a:ahLst/>
              <a:rect l="l" t="t" r="r" b="b"/>
              <a:pathLst>
                <a:path w="800" h="336">
                  <a:moveTo>
                    <a:pt x="768" y="336"/>
                  </a:moveTo>
                  <a:cubicBezTo>
                    <a:pt x="784" y="168"/>
                    <a:pt x="800" y="0"/>
                    <a:pt x="672" y="0"/>
                  </a:cubicBezTo>
                  <a:cubicBezTo>
                    <a:pt x="544" y="0"/>
                    <a:pt x="112" y="280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600" y="609480"/>
              <a:ext cx="99072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0" y="76320"/>
                <a:ext cx="504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76320" y="380880"/>
          <a:ext cx="2822400" cy="21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282240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6160" y="0"/>
            <a:ext cx="5507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UPERPOSITION APPLIED TO OP-AMP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4280" y="441360"/>
            <a:ext cx="7716600" cy="1762200"/>
            <a:chOff x="44280" y="441360"/>
            <a:chExt cx="7716600" cy="1762200"/>
          </a:xfrm>
        </p:grpSpPr>
        <p:sp>
          <p:nvSpPr>
            <p:cNvPr id="397" name=""/>
            <p:cNvSpPr/>
            <p:nvPr/>
          </p:nvSpPr>
          <p:spPr>
            <a:xfrm>
              <a:off x="3197160" y="441360"/>
              <a:ext cx="456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 SOURCES. WE ANALYZE ONE AT A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3440" y="1425600"/>
              <a:ext cx="876240" cy="723960"/>
            </a:xfrm>
            <a:custGeom>
              <a:avLst/>
              <a:gdLst/>
              <a:ahLst/>
              <a:rect l="l" t="t" r="r" b="b"/>
              <a:pathLst>
                <a:path w="552" h="456">
                  <a:moveTo>
                    <a:pt x="490" y="378"/>
                  </a:moveTo>
                  <a:cubicBezTo>
                    <a:pt x="552" y="283"/>
                    <a:pt x="497" y="187"/>
                    <a:pt x="443" y="104"/>
                  </a:cubicBezTo>
                  <a:cubicBezTo>
                    <a:pt x="426" y="78"/>
                    <a:pt x="406" y="35"/>
                    <a:pt x="377" y="19"/>
                  </a:cubicBezTo>
                  <a:cubicBezTo>
                    <a:pt x="357" y="7"/>
                    <a:pt x="332" y="7"/>
                    <a:pt x="310" y="0"/>
                  </a:cubicBezTo>
                  <a:cubicBezTo>
                    <a:pt x="206" y="11"/>
                    <a:pt x="251" y="0"/>
                    <a:pt x="169" y="28"/>
                  </a:cubicBezTo>
                  <a:cubicBezTo>
                    <a:pt x="150" y="34"/>
                    <a:pt x="112" y="47"/>
                    <a:pt x="112" y="47"/>
                  </a:cubicBezTo>
                  <a:cubicBezTo>
                    <a:pt x="93" y="60"/>
                    <a:pt x="67" y="66"/>
                    <a:pt x="55" y="85"/>
                  </a:cubicBezTo>
                  <a:cubicBezTo>
                    <a:pt x="43" y="104"/>
                    <a:pt x="18" y="142"/>
                    <a:pt x="18" y="142"/>
                  </a:cubicBezTo>
                  <a:cubicBezTo>
                    <a:pt x="0" y="210"/>
                    <a:pt x="5" y="315"/>
                    <a:pt x="46" y="378"/>
                  </a:cubicBezTo>
                  <a:cubicBezTo>
                    <a:pt x="65" y="407"/>
                    <a:pt x="99" y="425"/>
                    <a:pt x="131" y="434"/>
                  </a:cubicBezTo>
                  <a:cubicBezTo>
                    <a:pt x="156" y="441"/>
                    <a:pt x="207" y="453"/>
                    <a:pt x="207" y="453"/>
                  </a:cubicBezTo>
                  <a:cubicBezTo>
                    <a:pt x="334" y="447"/>
                    <a:pt x="382" y="456"/>
                    <a:pt x="480" y="425"/>
                  </a:cubicBezTo>
                  <a:cubicBezTo>
                    <a:pt x="492" y="391"/>
                    <a:pt x="490" y="407"/>
                    <a:pt x="490" y="3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280" y="1409760"/>
              <a:ext cx="609840" cy="7938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350" y="368"/>
                  </a:moveTo>
                  <a:cubicBezTo>
                    <a:pt x="375" y="290"/>
                    <a:pt x="373" y="215"/>
                    <a:pt x="378" y="132"/>
                  </a:cubicBezTo>
                  <a:cubicBezTo>
                    <a:pt x="375" y="113"/>
                    <a:pt x="373" y="94"/>
                    <a:pt x="369" y="75"/>
                  </a:cubicBezTo>
                  <a:cubicBezTo>
                    <a:pt x="353" y="3"/>
                    <a:pt x="287" y="7"/>
                    <a:pt x="227" y="0"/>
                  </a:cubicBezTo>
                  <a:cubicBezTo>
                    <a:pt x="214" y="2"/>
                    <a:pt x="147" y="4"/>
                    <a:pt x="123" y="18"/>
                  </a:cubicBezTo>
                  <a:cubicBezTo>
                    <a:pt x="103" y="29"/>
                    <a:pt x="66" y="56"/>
                    <a:pt x="66" y="56"/>
                  </a:cubicBezTo>
                  <a:cubicBezTo>
                    <a:pt x="33" y="107"/>
                    <a:pt x="20" y="142"/>
                    <a:pt x="0" y="198"/>
                  </a:cubicBezTo>
                  <a:cubicBezTo>
                    <a:pt x="5" y="262"/>
                    <a:pt x="3" y="391"/>
                    <a:pt x="66" y="434"/>
                  </a:cubicBezTo>
                  <a:cubicBezTo>
                    <a:pt x="104" y="489"/>
                    <a:pt x="162" y="493"/>
                    <a:pt x="227" y="500"/>
                  </a:cubicBezTo>
                  <a:cubicBezTo>
                    <a:pt x="255" y="497"/>
                    <a:pt x="285" y="500"/>
                    <a:pt x="312" y="491"/>
                  </a:cubicBezTo>
                  <a:cubicBezTo>
                    <a:pt x="334" y="484"/>
                    <a:pt x="369" y="453"/>
                    <a:pt x="369" y="453"/>
                  </a:cubicBezTo>
                  <a:cubicBezTo>
                    <a:pt x="384" y="405"/>
                    <a:pt x="382" y="434"/>
                    <a:pt x="350" y="36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6320" y="2422440"/>
            <a:ext cx="5941800" cy="2414520"/>
            <a:chOff x="76320" y="2422440"/>
            <a:chExt cx="5941800" cy="2414520"/>
          </a:xfrm>
        </p:grpSpPr>
        <p:graphicFrame>
          <p:nvGraphicFramePr>
            <p:cNvPr id="401" name=""/>
            <p:cNvGraphicFramePr/>
            <p:nvPr/>
          </p:nvGraphicFramePr>
          <p:xfrm>
            <a:off x="76320" y="2612880"/>
            <a:ext cx="3276360" cy="2224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612880"/>
                      <a:ext cx="32763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"/>
            <p:cNvSpPr/>
            <p:nvPr/>
          </p:nvSpPr>
          <p:spPr>
            <a:xfrm>
              <a:off x="3554280" y="2422440"/>
              <a:ext cx="2463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inverter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4" name=""/>
          <p:cNvGraphicFramePr/>
          <p:nvPr/>
        </p:nvGraphicFramePr>
        <p:xfrm>
          <a:off x="6172200" y="2362320"/>
          <a:ext cx="14479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362320"/>
                    <a:ext cx="14479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6" name=""/>
          <p:cNvGrpSpPr/>
          <p:nvPr/>
        </p:nvGrpSpPr>
        <p:grpSpPr>
          <a:xfrm>
            <a:off x="380880" y="4648320"/>
            <a:ext cx="6172920" cy="1923840"/>
            <a:chOff x="380880" y="4648320"/>
            <a:chExt cx="6172920" cy="1923840"/>
          </a:xfrm>
        </p:grpSpPr>
        <p:graphicFrame>
          <p:nvGraphicFramePr>
            <p:cNvPr id="407" name=""/>
            <p:cNvGraphicFramePr/>
            <p:nvPr/>
          </p:nvGraphicFramePr>
          <p:xfrm>
            <a:off x="380880" y="4648320"/>
            <a:ext cx="2879640" cy="192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4648320"/>
                      <a:ext cx="2879640" cy="19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3418920" y="4708440"/>
              <a:ext cx="3128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8040" y="5334120"/>
              <a:ext cx="2975760" cy="5806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redrawing for ad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l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1" name=""/>
          <p:cNvGraphicFramePr/>
          <p:nvPr/>
        </p:nvGraphicFramePr>
        <p:xfrm>
          <a:off x="6629400" y="4772160"/>
          <a:ext cx="1905120" cy="82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4772160"/>
                    <a:ext cx="19051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3843000" y="3336840"/>
            <a:ext cx="4005720" cy="1158840"/>
            <a:chOff x="3843000" y="3336840"/>
            <a:chExt cx="4005720" cy="1158840"/>
          </a:xfrm>
        </p:grpSpPr>
        <p:sp>
          <p:nvSpPr>
            <p:cNvPr id="414" name=""/>
            <p:cNvSpPr/>
            <p:nvPr/>
          </p:nvSpPr>
          <p:spPr>
            <a:xfrm>
              <a:off x="3843000" y="3336840"/>
              <a:ext cx="2779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nciple of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5" name=""/>
            <p:cNvGraphicFramePr/>
            <p:nvPr/>
          </p:nvGraphicFramePr>
          <p:xfrm>
            <a:off x="3886200" y="3692520"/>
            <a:ext cx="3962520" cy="803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86200" y="3692520"/>
                      <a:ext cx="396252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17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0"/>
          <a:ext cx="43369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369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809880" y="304920"/>
          <a:ext cx="3730680" cy="28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04920"/>
                    <a:ext cx="373068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4" name=""/>
          <p:cNvGrpSpPr/>
          <p:nvPr/>
        </p:nvGrpSpPr>
        <p:grpSpPr>
          <a:xfrm>
            <a:off x="4572000" y="1111320"/>
            <a:ext cx="685800" cy="412560"/>
            <a:chOff x="4572000" y="1111320"/>
            <a:chExt cx="685800" cy="412560"/>
          </a:xfrm>
        </p:grpSpPr>
        <p:sp>
          <p:nvSpPr>
            <p:cNvPr id="425" name=""/>
            <p:cNvSpPr/>
            <p:nvPr/>
          </p:nvSpPr>
          <p:spPr>
            <a:xfrm>
              <a:off x="4572000" y="11430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4648320" y="1111320"/>
                  <a:ext cx="2682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27" name=""/>
          <p:cNvGraphicFramePr/>
          <p:nvPr/>
        </p:nvGraphicFramePr>
        <p:xfrm>
          <a:off x="7315200" y="1066680"/>
          <a:ext cx="15192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1066680"/>
                    <a:ext cx="1519200" cy="6922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228600" y="3095640"/>
          <a:ext cx="2743200" cy="23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095640"/>
                    <a:ext cx="2743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0" y="2895480"/>
          <a:ext cx="322092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895480"/>
                    <a:ext cx="3220920" cy="38736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809880" y="3733920"/>
          <a:ext cx="3883320" cy="15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733920"/>
                    <a:ext cx="38833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"/>
          <p:cNvGrpSpPr/>
          <p:nvPr/>
        </p:nvGrpSpPr>
        <p:grpSpPr>
          <a:xfrm>
            <a:off x="1226160" y="3962520"/>
            <a:ext cx="297720" cy="380880"/>
            <a:chOff x="1226160" y="3962520"/>
            <a:chExt cx="297720" cy="380880"/>
          </a:xfrm>
        </p:grpSpPr>
        <p:sp>
          <p:nvSpPr>
            <p:cNvPr id="436" name=""/>
            <p:cNvSpPr/>
            <p:nvPr/>
          </p:nvSpPr>
          <p:spPr>
            <a:xfrm>
              <a:off x="1371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26160" y="3962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816720" y="4724280"/>
            <a:ext cx="450360" cy="307080"/>
            <a:chOff x="3816720" y="4724280"/>
            <a:chExt cx="450360" cy="307080"/>
          </a:xfrm>
        </p:grpSpPr>
        <p:sp>
          <p:nvSpPr>
            <p:cNvPr id="439" name=""/>
            <p:cNvSpPr/>
            <p:nvPr/>
          </p:nvSpPr>
          <p:spPr>
            <a:xfrm>
              <a:off x="38167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4800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91080" y="3968640"/>
            <a:ext cx="289800" cy="374760"/>
            <a:chOff x="91080" y="3968640"/>
            <a:chExt cx="289800" cy="374760"/>
          </a:xfrm>
        </p:grpSpPr>
        <p:sp>
          <p:nvSpPr>
            <p:cNvPr id="442" name=""/>
            <p:cNvSpPr/>
            <p:nvPr/>
          </p:nvSpPr>
          <p:spPr>
            <a:xfrm>
              <a:off x="228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080" y="3968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800880" y="3664080"/>
            <a:ext cx="390240" cy="307080"/>
            <a:chOff x="3800880" y="3664080"/>
            <a:chExt cx="390240" cy="307080"/>
          </a:xfrm>
        </p:grpSpPr>
        <p:sp>
          <p:nvSpPr>
            <p:cNvPr id="445" name=""/>
            <p:cNvSpPr/>
            <p:nvPr/>
          </p:nvSpPr>
          <p:spPr>
            <a:xfrm>
              <a:off x="4038480" y="3733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0880" y="36640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438280" y="4044960"/>
            <a:ext cx="426600" cy="307080"/>
            <a:chOff x="2438280" y="4044960"/>
            <a:chExt cx="426600" cy="307080"/>
          </a:xfrm>
        </p:grpSpPr>
        <p:sp>
          <p:nvSpPr>
            <p:cNvPr id="448" name=""/>
            <p:cNvSpPr/>
            <p:nvPr/>
          </p:nvSpPr>
          <p:spPr>
            <a:xfrm>
              <a:off x="2438280" y="41911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81920" y="4044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315480" y="4800600"/>
            <a:ext cx="282960" cy="465840"/>
            <a:chOff x="6315480" y="4800600"/>
            <a:chExt cx="282960" cy="465840"/>
          </a:xfrm>
        </p:grpSpPr>
        <p:sp>
          <p:nvSpPr>
            <p:cNvPr id="451" name=""/>
            <p:cNvSpPr/>
            <p:nvPr/>
          </p:nvSpPr>
          <p:spPr>
            <a:xfrm>
              <a:off x="6324480" y="4800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5480" y="4959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2895480" y="5257800"/>
          <a:ext cx="2484720" cy="14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5257800"/>
                    <a:ext cx="2484720" cy="1415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5943600" y="5334120"/>
          <a:ext cx="1779480" cy="13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334120"/>
                    <a:ext cx="1779480" cy="1306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3886200" y="3124080"/>
          <a:ext cx="4008600" cy="4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3124080"/>
                    <a:ext cx="4008600" cy="4399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848720" y="19051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7701840" y="5774760"/>
            <a:ext cx="1415160" cy="1078560"/>
            <a:chOff x="7701840" y="5774760"/>
            <a:chExt cx="1415160" cy="1078560"/>
          </a:xfrm>
        </p:grpSpPr>
        <p:pic>
          <p:nvPicPr>
            <p:cNvPr id="463" name="" descr=""/>
            <p:cNvPicPr/>
            <p:nvPr/>
          </p:nvPicPr>
          <p:blipFill>
            <a:blip r:embed="rId19"/>
            <a:stretch/>
          </p:blipFill>
          <p:spPr>
            <a:xfrm>
              <a:off x="82706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70184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Line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1658880"/>
            <a:ext cx="10134360" cy="177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echniques developed in chapter 2; i.e., combination series/parall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oltage divider and current divider are special techniques that are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fficient than the general methods, but have a limited applic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 is to our advantage to keep them in our repertoire and use them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y are more effici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3840" y="3733920"/>
            <a:ext cx="7229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this section we develop additional techniques that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analysis of some circu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fact these techniques expand on concepts that we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lready introduced: linearity and circuit equiva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820800"/>
            <a:ext cx="7919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S OF NODE AND LOOP ANALYSIS PROVIDE POWERFUL TOOL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BEHAVIOR OF EVERY COMPONENT IN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472428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28800" y="-38160"/>
          <a:ext cx="543240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-38160"/>
                    <a:ext cx="54324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1080" y="465120"/>
            <a:ext cx="273636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EQUIVALENT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READY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1880" y="646740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1480" y="34920"/>
            <a:ext cx="152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640" y="455760"/>
            <a:ext cx="405792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MODELS USED ARE ALL LIN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HEMATICALLY THIS IMPLIES THAT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TISFY THE PRINCIPLE OF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2680" y="1371600"/>
                <a:ext cx="34830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MODEL 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LINEAR IFF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possible input  pairs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ll possible scalars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0" y="2825640"/>
            <a:ext cx="4660920" cy="1886040"/>
            <a:chOff x="0" y="2825640"/>
            <a:chExt cx="4660920" cy="1886040"/>
          </a:xfrm>
        </p:grpSpPr>
        <p:sp>
          <p:nvSpPr>
            <p:cNvPr id="68" name=""/>
            <p:cNvSpPr/>
            <p:nvPr/>
          </p:nvSpPr>
          <p:spPr>
            <a:xfrm>
              <a:off x="321840" y="2825640"/>
              <a:ext cx="354276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 ALTERNATIVE, AND EQUIVAL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FINITION OF LINEARITY SPLIT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UPERPOSITION PRINCIPLE IN TW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0" y="3733920"/>
                  <a:ext cx="46609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MODEL 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LINEAR IFF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additivity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αu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α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α</m:t>
                          </m:r>
                          <m:r>
                            <m:t xml:space="preserve">,</m:t>
                          </m:r>
                          <m:r>
                            <m:t xml:space="preserve">∀</m:t>
                          </m:r>
                          <m:r>
                            <m:t xml:space="preserve">u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homogeneity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129600" y="4848120"/>
            <a:ext cx="4385520" cy="1372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ICE THAT, TECHNICALLY, LINEARITY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VER BE VERIFIED EMPIRICALLY ON A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UT IT COULD BE DISPROVED BY A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ER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CAN BE VERIFIED MATHEMATICALLY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DEL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56400" y="463680"/>
            <a:ext cx="4080600" cy="2958480"/>
            <a:chOff x="4856400" y="463680"/>
            <a:chExt cx="4080600" cy="2958480"/>
          </a:xfrm>
        </p:grpSpPr>
        <p:grpSp>
          <p:nvGrpSpPr>
            <p:cNvPr id="72" name=""/>
            <p:cNvGrpSpPr/>
            <p:nvPr/>
          </p:nvGrpSpPr>
          <p:grpSpPr>
            <a:xfrm>
              <a:off x="4943160" y="463680"/>
              <a:ext cx="3740760" cy="733320"/>
              <a:chOff x="4943160" y="463680"/>
              <a:chExt cx="3740760" cy="733320"/>
            </a:xfrm>
          </p:grpSpPr>
          <p:sp>
            <p:nvSpPr>
              <p:cNvPr id="73" name=""/>
              <p:cNvSpPr/>
              <p:nvPr/>
            </p:nvSpPr>
            <p:spPr>
              <a:xfrm>
                <a:off x="4943160" y="463680"/>
                <a:ext cx="3740760" cy="733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USING NODE ANALYSIS FOR RESIS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IRCUITS ONE OBTAINS MODELS OF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562720" y="914400"/>
                    <a:ext cx="7221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" name=""/>
            <p:cNvSpPr/>
            <p:nvPr/>
          </p:nvSpPr>
          <p:spPr>
            <a:xfrm>
              <a:off x="4879800" y="1301760"/>
              <a:ext cx="3949560" cy="1159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 CONTAINING ALL TH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IS A VECTOR DEP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LY  ON THE INDEPENDENT SOURC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FACT THE MODEL CAN BE MADE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TAILED AS FOL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00800" y="2514600"/>
                  <a:ext cx="811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4856400" y="2901960"/>
              <a:ext cx="408060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RE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A,B,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ARE MATRIC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F ALL 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20640" y="3664080"/>
            <a:ext cx="3733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CIRCUIT ANALYSIS WE CAN US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NEARITY ASSUMPTION TO 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PECIAL ANALYSIS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560" y="4726080"/>
            <a:ext cx="32850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IRST WE REVIEW THE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LY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8840" y="109440"/>
            <a:ext cx="5263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SE STUDY TO REVIEW PAS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0" y="598320"/>
            <a:ext cx="4419720" cy="3745080"/>
            <a:chOff x="4572000" y="598320"/>
            <a:chExt cx="4419720" cy="3745080"/>
          </a:xfrm>
        </p:grpSpPr>
        <p:graphicFrame>
          <p:nvGraphicFramePr>
            <p:cNvPr id="86" name=""/>
            <p:cNvGraphicFramePr/>
            <p:nvPr/>
          </p:nvGraphicFramePr>
          <p:xfrm>
            <a:off x="4572000" y="1284120"/>
            <a:ext cx="4419720" cy="3059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284120"/>
                      <a:ext cx="4419720" cy="30592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120280" y="598320"/>
              <a:ext cx="32212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drawing the circuit may help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recognizing special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4920" y="746280"/>
            <a:ext cx="3733560" cy="3666240"/>
            <a:chOff x="304920" y="746280"/>
            <a:chExt cx="3733560" cy="366624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746280"/>
              <a:ext cx="3733560" cy="3241800"/>
              <a:chOff x="304920" y="746280"/>
              <a:chExt cx="3733560" cy="32418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4920" y="898560"/>
              <a:ext cx="3733560" cy="308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04920" y="898560"/>
                        <a:ext cx="3733560" cy="3089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1066680" y="746280"/>
                    <a:ext cx="1625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 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4" name=""/>
            <p:cNvSpPr/>
            <p:nvPr/>
          </p:nvSpPr>
          <p:spPr>
            <a:xfrm>
              <a:off x="377280" y="4105440"/>
              <a:ext cx="34999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UTION TECHNIQUES AVAILABLE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464832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483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648320" y="0"/>
            <a:ext cx="4344840" cy="2076480"/>
            <a:chOff x="4648320" y="0"/>
            <a:chExt cx="4344840" cy="2076480"/>
          </a:xfrm>
        </p:grpSpPr>
        <p:graphicFrame>
          <p:nvGraphicFramePr>
            <p:cNvPr id="98" name=""/>
            <p:cNvGraphicFramePr/>
            <p:nvPr/>
          </p:nvGraphicFramePr>
          <p:xfrm>
            <a:off x="4648320" y="0"/>
            <a:ext cx="2547720" cy="20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0"/>
                      <a:ext cx="254772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086600" y="152280"/>
            <a:ext cx="1906560" cy="134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152280"/>
                      <a:ext cx="1906560" cy="13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"/>
          <p:cNvGrpSpPr/>
          <p:nvPr/>
        </p:nvGrpSpPr>
        <p:grpSpPr>
          <a:xfrm>
            <a:off x="609480" y="2895480"/>
            <a:ext cx="6181920" cy="3351240"/>
            <a:chOff x="609480" y="2895480"/>
            <a:chExt cx="6181920" cy="3351240"/>
          </a:xfrm>
        </p:grpSpPr>
        <p:graphicFrame>
          <p:nvGraphicFramePr>
            <p:cNvPr id="103" name=""/>
            <p:cNvGraphicFramePr/>
            <p:nvPr/>
          </p:nvGraphicFramePr>
          <p:xfrm>
            <a:off x="1371600" y="5867280"/>
            <a:ext cx="1905120" cy="37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5867280"/>
                      <a:ext cx="190512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480" y="2895480"/>
            <a:ext cx="3048120" cy="297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480" y="2895480"/>
                      <a:ext cx="30481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4038480" y="3657600"/>
            <a:ext cx="2752920" cy="13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3657600"/>
                      <a:ext cx="2752920" cy="13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57400" cy="16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0"/>
                    <a:ext cx="205740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04920" y="380880"/>
          <a:ext cx="335268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3352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54960" y="65160"/>
            <a:ext cx="2704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ING HOMOGENE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" y="2901960"/>
            <a:ext cx="39769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sume that the answer is known. Can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input in a very easy way ?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838080"/>
                <a:ext cx="2685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3200" y="3429000"/>
            <a:ext cx="36644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o is given then V1 can be compu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ing an inverse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4038480"/>
                <a:ext cx="1447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5320" y="4800600"/>
            <a:ext cx="3728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Vs using a second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320" y="5154480"/>
                <a:ext cx="4343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84920" y="6172200"/>
            <a:ext cx="2769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 now for the variabl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6200" y="0"/>
            <a:ext cx="44694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rocedure can be made entirely algorith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40080" y="380880"/>
            <a:ext cx="41752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Give to Vo any arbitrary value (e.g., V’o =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440" y="696960"/>
            <a:ext cx="48427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mpute the resulting source value and call it V’_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58720" y="1012680"/>
            <a:ext cx="4597920" cy="438120"/>
            <a:chOff x="4158720" y="1012680"/>
            <a:chExt cx="4597920" cy="438120"/>
          </a:xfrm>
        </p:grpSpPr>
        <p:sp>
          <p:nvSpPr>
            <p:cNvPr id="128" name=""/>
            <p:cNvSpPr/>
            <p:nvPr/>
          </p:nvSpPr>
          <p:spPr>
            <a:xfrm>
              <a:off x="4158720" y="1069920"/>
              <a:ext cx="1558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. </a:t>
              </a:r>
              <a:r>
                <a:rPr b="1" lang="es-CL" sz="1400" spc="-1" strike="noStrike">
                  <a:solidFill>
                    <a:srgbClr val="000000"/>
                  </a:solidFill>
                  <a:latin typeface="Tahoma"/>
                </a:rPr>
                <a:t>Use linearit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715000" y="1012680"/>
                  <a:ext cx="3041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4221720" y="1454040"/>
            <a:ext cx="3475440" cy="1016280"/>
            <a:chOff x="4221720" y="1454040"/>
            <a:chExt cx="3475440" cy="1016280"/>
          </a:xfrm>
        </p:grpSpPr>
        <p:sp>
          <p:nvSpPr>
            <p:cNvPr id="131" name=""/>
            <p:cNvSpPr/>
            <p:nvPr/>
          </p:nvSpPr>
          <p:spPr>
            <a:xfrm>
              <a:off x="4221720" y="1454040"/>
              <a:ext cx="34754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. The given value of the source (V_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rresponds to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5654880" y="1752480"/>
                  <a:ext cx="76212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216680" y="2749680"/>
            <a:ext cx="3215160" cy="1247760"/>
            <a:chOff x="4216680" y="2749680"/>
            <a:chExt cx="3215160" cy="1247760"/>
          </a:xfrm>
        </p:grpSpPr>
        <p:sp>
          <p:nvSpPr>
            <p:cNvPr id="134" name=""/>
            <p:cNvSpPr/>
            <p:nvPr/>
          </p:nvSpPr>
          <p:spPr>
            <a:xfrm>
              <a:off x="4216680" y="2749680"/>
              <a:ext cx="32151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nce the desired output value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02120" y="3191040"/>
                  <a:ext cx="1905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579280" y="4267080"/>
            <a:ext cx="2270160" cy="1798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is a nice little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special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rmally when ther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nly one sour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en in our ju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wards is act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as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1560" y="1752480"/>
            <a:ext cx="723600" cy="515880"/>
            <a:chOff x="1141560" y="1752480"/>
            <a:chExt cx="723600" cy="51588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1752480"/>
                  <a:ext cx="5698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141560" y="22114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209680" y="457200"/>
          <a:ext cx="61563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57200"/>
                    <a:ext cx="61563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2600" y="58680"/>
            <a:ext cx="3102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USING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05720" y="12952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952880" y="2819520"/>
            <a:ext cx="1981440" cy="639720"/>
            <a:chOff x="4952880" y="2819520"/>
            <a:chExt cx="1981440" cy="639720"/>
          </a:xfrm>
        </p:grpSpPr>
        <p:graphicFrame>
          <p:nvGraphicFramePr>
            <p:cNvPr id="151" name=""/>
            <p:cNvGraphicFramePr/>
            <p:nvPr/>
          </p:nvGraphicFramePr>
          <p:xfrm>
            <a:off x="4952880" y="2819520"/>
            <a:ext cx="1752840" cy="63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819520"/>
                      <a:ext cx="1752840" cy="639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705720" y="304812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2773440"/>
            <a:ext cx="1752840" cy="708120"/>
            <a:chOff x="7010280" y="2773440"/>
            <a:chExt cx="1752840" cy="708120"/>
          </a:xfrm>
        </p:grpSpPr>
        <p:graphicFrame>
          <p:nvGraphicFramePr>
            <p:cNvPr id="155" name=""/>
            <p:cNvGraphicFramePr/>
            <p:nvPr/>
          </p:nvGraphicFramePr>
          <p:xfrm>
            <a:off x="7010280" y="2773440"/>
            <a:ext cx="1543320" cy="70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773440"/>
                      <a:ext cx="1543320" cy="7081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8534520" y="300204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839080" y="3002040"/>
                <a:ext cx="20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2133720" y="3429000"/>
            <a:ext cx="1752120" cy="635040"/>
            <a:chOff x="2133720" y="3429000"/>
            <a:chExt cx="1752120" cy="635040"/>
          </a:xfrm>
        </p:grpSpPr>
        <p:graphicFrame>
          <p:nvGraphicFramePr>
            <p:cNvPr id="160" name=""/>
            <p:cNvGraphicFramePr/>
            <p:nvPr/>
          </p:nvGraphicFramePr>
          <p:xfrm>
            <a:off x="2133720" y="3429000"/>
            <a:ext cx="1523880" cy="635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3429000"/>
                      <a:ext cx="1523880" cy="635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600" y="3657600"/>
              <a:ext cx="22824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3581280"/>
            <a:ext cx="2361960" cy="405000"/>
            <a:chOff x="3886200" y="3581280"/>
            <a:chExt cx="2361960" cy="405000"/>
          </a:xfrm>
        </p:grpSpPr>
        <p:graphicFrame>
          <p:nvGraphicFramePr>
            <p:cNvPr id="164" name=""/>
            <p:cNvGraphicFramePr/>
            <p:nvPr/>
          </p:nvGraphicFramePr>
          <p:xfrm>
            <a:off x="3886200" y="3581280"/>
            <a:ext cx="2133360" cy="40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3581280"/>
                      <a:ext cx="2133360" cy="405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6019560" y="365760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273720" y="36576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3962520" y="4114800"/>
          <a:ext cx="1981080" cy="86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114800"/>
                    <a:ext cx="1981080" cy="866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3809880" y="5029200"/>
            <a:ext cx="2447280" cy="1020240"/>
            <a:chOff x="3809880" y="5029200"/>
            <a:chExt cx="2447280" cy="1020240"/>
          </a:xfrm>
        </p:grpSpPr>
        <p:sp>
          <p:nvSpPr>
            <p:cNvPr id="171" name=""/>
            <p:cNvSpPr/>
            <p:nvPr/>
          </p:nvSpPr>
          <p:spPr>
            <a:xfrm>
              <a:off x="3845160" y="5029200"/>
              <a:ext cx="2412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W USE HOMOGENE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809880" y="5401800"/>
                  <a:ext cx="2349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219320" y="1866960"/>
          <a:ext cx="560520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66960"/>
                    <a:ext cx="56052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8188200" y="63673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72284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133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781680" y="3086280"/>
                <a:ext cx="187956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SUME 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453360" y="1866960"/>
                <a:ext cx="861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733920" y="2552760"/>
            <a:ext cx="799920" cy="798480"/>
            <a:chOff x="3733920" y="2552760"/>
            <a:chExt cx="799920" cy="798480"/>
          </a:xfrm>
        </p:grpSpPr>
        <p:sp>
          <p:nvSpPr>
            <p:cNvPr id="181" name=""/>
            <p:cNvSpPr/>
            <p:nvPr/>
          </p:nvSpPr>
          <p:spPr>
            <a:xfrm>
              <a:off x="4343400" y="255276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733920" y="308628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352680" y="1486080"/>
            <a:ext cx="849240" cy="341280"/>
            <a:chOff x="3352680" y="1486080"/>
            <a:chExt cx="849240" cy="341280"/>
          </a:xfrm>
        </p:grpSpPr>
        <p:sp>
          <p:nvSpPr>
            <p:cNvPr id="184" name=""/>
            <p:cNvSpPr/>
            <p:nvPr/>
          </p:nvSpPr>
          <p:spPr>
            <a:xfrm>
              <a:off x="3363840" y="182736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352680" y="1486080"/>
                  <a:ext cx="773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19520" y="156204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19520" y="110484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1447920" y="2476440"/>
            <a:ext cx="838080" cy="838080"/>
            <a:chOff x="1447920" y="2476440"/>
            <a:chExt cx="838080" cy="838080"/>
          </a:xfrm>
        </p:grpSpPr>
        <p:sp>
          <p:nvSpPr>
            <p:cNvPr id="189" name=""/>
            <p:cNvSpPr/>
            <p:nvPr/>
          </p:nvSpPr>
          <p:spPr>
            <a:xfrm>
              <a:off x="1447920" y="247644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486080" y="300996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2438280" y="2095200"/>
            <a:ext cx="493560" cy="1410120"/>
            <a:chOff x="2438280" y="2095200"/>
            <a:chExt cx="493560" cy="1410120"/>
          </a:xfrm>
        </p:grpSpPr>
        <p:sp>
          <p:nvSpPr>
            <p:cNvPr id="192" name=""/>
            <p:cNvSpPr/>
            <p:nvPr/>
          </p:nvSpPr>
          <p:spPr>
            <a:xfrm flipV="1">
              <a:off x="2819160" y="2095200"/>
              <a:ext cx="0" cy="10666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438280" y="3238560"/>
                  <a:ext cx="4935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3962520"/>
                <a:ext cx="2362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HOMOGENEI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48120" y="685800"/>
                <a:ext cx="541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HOMOGENEIT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60640" y="152280"/>
            <a:ext cx="2742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7:35:40Z</dcterms:created>
  <dc:creator>Jorge L. Aravena</dc:creator>
  <dc:description/>
  <dc:language>en-US</dc:language>
  <cp:lastModifiedBy>Jorge Aravena</cp:lastModifiedBy>
  <cp:lastPrinted>2000-10-06T09:36:18Z</cp:lastPrinted>
  <dcterms:modified xsi:type="dcterms:W3CDTF">2004-08-18T01:37:25Z</dcterms:modified>
  <cp:revision>24</cp:revision>
  <dc:subject/>
  <dc:title>No Slide Title</dc:title>
</cp:coreProperties>
</file>